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4.gif" ContentType="image/gif"/>
  <Override PartName="/ppt/media/image1.jpeg" ContentType="image/jpeg"/>
  <Override PartName="/ppt/media/image24.gif" ContentType="image/gif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3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72CC-1007-4F3F-934E-3523E5CCB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59FD-DD06-470F-9391-FE75402E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6AC8-27DE-40CB-AB1C-FAD5195C1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757C-1CD0-4157-ABB4-1156AEBAA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12CC-E2C4-408A-93B2-E4362A7D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7705-F920-4642-97D6-C3D8DB12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1B2F-5E09-4E3C-8BFA-86C99CB4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55BC-0B6A-416A-B264-F8B5D532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B103-1F13-4B1E-81A7-56419F28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67DB-988C-438F-81F2-1F659B63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112E-639C-49D0-9C79-6F6A2121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63A2-4D7B-429F-ADDB-07AD581E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227D-9CB1-4379-A330-4C1A617FC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oachmartyscamp.com/stickman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12193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A Day in the Life of a Stick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81080" y="5181480"/>
            <a:ext cx="50292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Pivot Man An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Art &amp; Technology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3100320"/>
            <a:ext cx="1905120" cy="116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9360" y="533520"/>
            <a:ext cx="9162720" cy="6024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362320" y="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usement P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819520" y="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077400" cy="61722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86000" y="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c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438280" y="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ke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362320" y="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i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123920"/>
            <a:ext cx="8915400" cy="5734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666880" y="1522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Baske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360" y="685800"/>
            <a:ext cx="9125280" cy="56912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743200" y="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nowboa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666880" y="152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licopter 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362320" y="152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yd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286000" y="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ying C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362320" y="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ning J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362320" y="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ying C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38280" y="990720"/>
            <a:ext cx="7867440" cy="5114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295280" y="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crob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438280" y="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cer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3760" y="838080"/>
            <a:ext cx="9096480" cy="6019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286000" y="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ning from a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058320" cy="6019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590920" y="304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9160" y="685800"/>
            <a:ext cx="8905680" cy="6172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90920" y="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mbing a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57400" y="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mping 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438280" y="228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ding an Eleph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743200" y="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001000" cy="5943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0" y="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 Ski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38280" y="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ounter with a Sq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9360" y="685800"/>
            <a:ext cx="9162720" cy="6172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09680" y="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16:14:09Z</dcterms:created>
  <dc:creator>Patrick J. Mooney</dc:creator>
  <dc:description/>
  <dc:language>en-US</dc:language>
  <cp:lastModifiedBy>Oxley Family</cp:lastModifiedBy>
  <dcterms:modified xsi:type="dcterms:W3CDTF">2010-04-20T14:16:48Z</dcterms:modified>
  <cp:revision>10</cp:revision>
  <dc:subject/>
  <dc:title>Slide 1</dc:title>
</cp:coreProperties>
</file>